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93C0-FB12-47E8-93F9-64D19F5A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6ECD-634A-41A4-BE09-237EC17C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F06E-802D-4C16-8763-95EB6351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A73E-AD00-4F41-81F9-DA4AAB16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1EE6-9A17-4EE3-A20F-56E8E561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263C-DBF8-4FDF-9FF8-71ADCB21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7401-5A9B-4B5F-B4D4-04717A01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A572-BD7E-4012-BA4D-5CDA23E2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E6C0-84A3-4C58-AE67-995A0B26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FFA6-CE04-4EE1-B1AA-E10F1782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2878-E1E2-44BE-A3A0-35FBE639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8B5C-44F1-4BA7-94AF-D6EBE3B3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02B9-A892-4B6E-A820-975272A8D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IGMORE                                CRAIGMORE                               CRAIGMORE                                DUNOON  ARGYLL                        DUNOON  ARGYLL                           DUNOON  ARGYLL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RT  MATILDA                             GOUROCK                                        GOUROCK                                           GOUROCK                                GOUROCK  100TH                         GOUROCK  PARK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6483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UROCK  PARK                        GOUROCK  PARK                     GOUROCK  PARK  50TH                     GOUROCK  PARK  75TH             GREENOCK  VICTORIA                    GREENOCK  VICTORI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3244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OSVENOR                                 GROSVENOR                                  GROSVENOR                                       GROSVENOR                          GROSVENOR  150TH                                    HILLEND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13240" y="333360"/>
            <a:ext cx="111600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97600" y="33336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193240" y="333360"/>
            <a:ext cx="100620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608880" y="404640"/>
            <a:ext cx="969840" cy="924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31800" y="2060640"/>
            <a:ext cx="1060560" cy="97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2073240" y="1844640"/>
            <a:ext cx="987480" cy="1193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3584520" y="1773360"/>
            <a:ext cx="987480" cy="1252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5168880" y="1773360"/>
            <a:ext cx="987480" cy="1266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6608880" y="1557360"/>
            <a:ext cx="1133280" cy="1522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8121600" y="2205000"/>
            <a:ext cx="1001880" cy="858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631800" y="3500280"/>
            <a:ext cx="1023840" cy="1133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5168880" y="3500280"/>
            <a:ext cx="1060560" cy="1157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6537240" y="3284640"/>
            <a:ext cx="1262160" cy="1376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8121600" y="3357720"/>
            <a:ext cx="1206720" cy="1325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31800" y="5445000"/>
            <a:ext cx="1023840" cy="887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2073240" y="5013360"/>
            <a:ext cx="1096920" cy="1352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3584520" y="5084640"/>
            <a:ext cx="1006560" cy="1266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8265960" y="530064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5168880" y="5084640"/>
            <a:ext cx="1060560" cy="1279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2000160" y="3500280"/>
            <a:ext cx="1096920" cy="1157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2144880" y="33336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6608880" y="5013360"/>
            <a:ext cx="1177920" cy="1332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704880" y="404640"/>
            <a:ext cx="1023840" cy="924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3513240" y="3284640"/>
            <a:ext cx="123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1:24:07Z</dcterms:created>
  <dc:creator>JOHN YOUNG</dc:creator>
  <dc:description/>
  <dc:language>en-US</dc:language>
  <cp:lastModifiedBy>JY</cp:lastModifiedBy>
  <cp:lastPrinted>2000-05-09T17:32:06Z</cp:lastPrinted>
  <dcterms:modified xsi:type="dcterms:W3CDTF">2007-10-19T13:49:31Z</dcterms:modified>
  <cp:revision>35</cp:revision>
  <dc:subject/>
  <dc:title>No Slide Title</dc:title>
</cp:coreProperties>
</file>